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37A-F7AD-47A0-ABCF-EB22A4C2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D19-E281-4DD5-B414-7EA1DFC7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B50-9777-4B8E-9D35-1A6FC86C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4A1-C7E7-467F-9657-C3174E49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390-FF33-40D5-A362-161F048F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5F4-D93F-43A3-8939-63F3C59D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A6E-A4B0-445E-83E7-8FD9872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037-1813-49B0-A957-F383C8F3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D14-B9E2-4157-883B-1860DA8E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67B-3BC8-4FF6-A55A-148F6A2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8C9-28D7-4001-B1C6-149191B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EAA-56FC-4FAC-BF3D-A265030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C720-15D4-4D52-BCC8-3C19847C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Make whatever kind of homemade cupcakes you would like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hoose whatever wristwatch you want for your birthday.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e sailboat got caught on a sandba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omorrow we will eat buttermilk pancakes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believe he caught the baseball in the outfield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hatever happened to the flashlight Dad bought at the drugstor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The airplane finally took off after sitting on the runway for twenty minutes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We couldn’t play volleyball today because there was a downpour that flooded the court.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My aunt will serve oatmeal and applesauce tomorrow morning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The fruitcake has been in the cupboard since November.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got a postcard today from my grandmothe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Arial"/>
              </a:rPr>
              <a:t>We will finally get the goldfish sometime tomorrow.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Arial"/>
              </a:rPr>
              <a:t>Hailey caught a grasshopper in the backyard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believe Jason made the snowman himself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Meg has been looking for seashells and starfish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Arial"/>
              </a:rPr>
              <a:t>Today, we watched a tugboat from the riverbank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I believe that Kim and Ned have been playing basketball in the driveway.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he sunshine finally came out after the rainstorm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teacher</cp:lastModifiedBy>
  <dcterms:modified xsi:type="dcterms:W3CDTF">2010-11-14T02:28:16Z</dcterms:modified>
  <cp:revision>33</cp:revision>
  <dc:subject/>
  <dc:title>He is always happy.</dc:title>
</cp:coreProperties>
</file>